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wmf" ContentType="image/x-wmf"/>
  <Override PartName="/ppt/media/image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40BF-9BEC-47DB-BB1F-542DF65CA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F9F6-B9C3-4F24-AAB6-89817E4E5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B84B-B1FF-44AB-827F-09A7024E6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766C-BDD7-4A37-9281-94D9E5332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884E-6AF9-49DA-8F4B-031662F85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6782-4A6D-4B0D-835C-F178D055E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5340-EDC9-4BD7-8DB3-C410EEEA6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82A7-41C1-4A52-B0A1-0089210BE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986F-BE09-41C1-917A-AB362C9B0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6A05-A879-4AF3-A526-2A185F09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BEA2-FE42-44C0-BC23-3E2CE3218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A49C-1815-4250-9F96-24BBE1209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30320" y="6059520"/>
            <a:ext cx="9013680" cy="722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527520"/>
            <a:ext cx="114300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676520" y="6527520"/>
            <a:ext cx="457200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324480" y="6527520"/>
            <a:ext cx="91440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Slide #: </a:t>
            </a:r>
            <a:fld id="{B5F3712A-EC55-443C-9EE7-D154B3F66E7E}" type="slidenum"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28600" y="5000760"/>
            <a:ext cx="8915400" cy="1724040"/>
            <a:chOff x="228600" y="5000760"/>
            <a:chExt cx="8915400" cy="172404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3886200" y="5051520"/>
              <a:ext cx="5257800" cy="165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228600" y="5000760"/>
              <a:ext cx="3809880" cy="17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7.jpeg"/><Relationship Id="rId15" Type="http://schemas.openxmlformats.org/officeDocument/2006/relationships/image" Target="../media/image18.png"/><Relationship Id="rId16" Type="http://schemas.openxmlformats.org/officeDocument/2006/relationships/image" Target="../media/image19.png"/><Relationship Id="rId17" Type="http://schemas.openxmlformats.org/officeDocument/2006/relationships/image" Target="../media/image20.png"/><Relationship Id="rId18" Type="http://schemas.openxmlformats.org/officeDocument/2006/relationships/image" Target="../media/image21.png"/><Relationship Id="rId19" Type="http://schemas.openxmlformats.org/officeDocument/2006/relationships/image" Target="../media/image22.png"/><Relationship Id="rId20" Type="http://schemas.openxmlformats.org/officeDocument/2006/relationships/image" Target="../media/image23.png"/><Relationship Id="rId2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JRA1 Update </a:t>
            </a:r>
            <a:br>
              <a:rPr sz="4000"/>
            </a:b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- 2008 January Board Meeet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35049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. Charles Y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roject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EXPReS, J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JRA Deliverable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57200" y="1312920"/>
          <a:ext cx="8229600" cy="4746600"/>
        </p:xfrm>
        <a:graphic>
          <a:graphicData uri="http://schemas.openxmlformats.org/drawingml/2006/table">
            <a:tbl>
              <a:tblPr/>
              <a:tblGrid>
                <a:gridCol w="5022720"/>
                <a:gridCol w="2127240"/>
                <a:gridCol w="107964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scri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la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c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Interim Protocols performance repor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rrelator design spec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oftware correlator cor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oftware data produc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Overall design docu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oftware for workflow manag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OFAR station interface re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Visualization softw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ata acquisition interface docu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oftware for correlation on clust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oftware cluster corre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irst fringes software correl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 edit this and date:  View -&gt; Hea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F45B-FCE9-4BAB-985F-9C3929C0559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ear month da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imes New Roman"/>
              </a:rPr>
              <a:t>Manpower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imon and Richard have left the team at JBO (though both still involved with EXPR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urrent contract for Jonathan expires November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0.5 FTE in SA1 available for PDRA to work on 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A4 Outreach work completed, using 0.07 of 0.5  FTE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ation boards (VSI interfaces) expected summer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ggest transferring 0.43 FTE from NA4 to FAB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we get a 6 month no cost extension we will be abl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eep Jonathan on the project as a PDRA until the end of July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low sufficient time for testing the input and output to the e-MERLIN correlator in eVLBI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eep on Stephen for a month or so this summer to help run the tes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 edit this and date:  View -&gt; Hea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29EF-F7FA-4370-9581-08124C26415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ear month da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886200" y="5715000"/>
            <a:ext cx="1488960" cy="4446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09480" y="2257560"/>
            <a:ext cx="614520" cy="6141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523880" y="2297160"/>
            <a:ext cx="849600" cy="5349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2666880" y="2389320"/>
            <a:ext cx="901800" cy="3524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3809880" y="2362320"/>
            <a:ext cx="836640" cy="404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4876920" y="2421000"/>
            <a:ext cx="888840" cy="2872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6019920" y="2413080"/>
            <a:ext cx="1508040" cy="360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8"/>
          <a:stretch/>
        </p:blipFill>
        <p:spPr>
          <a:xfrm>
            <a:off x="7802640" y="2133720"/>
            <a:ext cx="731880" cy="8618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9"/>
          <a:stretch/>
        </p:blipFill>
        <p:spPr>
          <a:xfrm>
            <a:off x="685800" y="3262320"/>
            <a:ext cx="849240" cy="5875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0"/>
          <a:stretch/>
        </p:blipFill>
        <p:spPr>
          <a:xfrm>
            <a:off x="1752480" y="3346560"/>
            <a:ext cx="2246400" cy="5904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1"/>
          <a:stretch/>
        </p:blipFill>
        <p:spPr>
          <a:xfrm>
            <a:off x="4338720" y="3098880"/>
            <a:ext cx="666720" cy="9144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tkk-ctv-eng" descr=""/>
          <p:cNvPicPr/>
          <p:nvPr/>
        </p:nvPicPr>
        <p:blipFill>
          <a:blip r:embed="rId12"/>
          <a:stretch/>
        </p:blipFill>
        <p:spPr>
          <a:xfrm>
            <a:off x="5257800" y="3271680"/>
            <a:ext cx="2290680" cy="665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3"/>
          <a:stretch/>
        </p:blipFill>
        <p:spPr>
          <a:xfrm>
            <a:off x="7767720" y="3247920"/>
            <a:ext cx="614160" cy="6145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4"/>
          <a:stretch/>
        </p:blipFill>
        <p:spPr>
          <a:xfrm>
            <a:off x="587520" y="4317840"/>
            <a:ext cx="874440" cy="9144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5"/>
          <a:stretch/>
        </p:blipFill>
        <p:spPr>
          <a:xfrm>
            <a:off x="1882800" y="4356000"/>
            <a:ext cx="836640" cy="836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6"/>
          <a:stretch/>
        </p:blipFill>
        <p:spPr>
          <a:xfrm>
            <a:off x="3025800" y="4356000"/>
            <a:ext cx="836640" cy="836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7"/>
          <a:stretch/>
        </p:blipFill>
        <p:spPr>
          <a:xfrm>
            <a:off x="4241880" y="4389480"/>
            <a:ext cx="614160" cy="7714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8"/>
          <a:stretch/>
        </p:blipFill>
        <p:spPr>
          <a:xfrm>
            <a:off x="5235480" y="4546440"/>
            <a:ext cx="1266840" cy="457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19"/>
          <a:stretch/>
        </p:blipFill>
        <p:spPr>
          <a:xfrm>
            <a:off x="6835680" y="4611600"/>
            <a:ext cx="1698840" cy="3272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0"/>
          <a:stretch/>
        </p:blipFill>
        <p:spPr>
          <a:xfrm>
            <a:off x="4038480" y="1219320"/>
            <a:ext cx="1067040" cy="711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Partner Logo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 edit this and date:  View -&gt; Hea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9B33-A138-40DC-9F35-0ED476D58DB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ear month da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3T07:40:25Z</dcterms:created>
  <dc:creator>Kristine Yun</dc:creator>
  <dc:description/>
  <dc:language>en-US</dc:language>
  <cp:lastModifiedBy>tcyun</cp:lastModifiedBy>
  <dcterms:modified xsi:type="dcterms:W3CDTF">2008-01-30T10:37:08Z</dcterms:modified>
  <cp:revision>43</cp:revision>
  <dc:subject/>
  <dc:title>Slide 1</dc:title>
</cp:coreProperties>
</file>